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4D3-05B1-424E-92F0-CB5877BB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97D-4C08-48D3-A548-2B3D718A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0BD-EEEF-474E-9EAB-DC8AD5A8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BC6-7BBF-4C35-93F1-393BBA73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405B-7AA8-493D-A6C4-ED3D9689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9834-8440-4E86-AEA3-E555FC61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97F3-3611-426F-BDCE-B72EDD52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94A0-F90D-4607-A8C6-E42ECCC8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B49A-66D7-4C21-AFDD-B801E731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67F5-F3DA-4221-9172-C86D04C0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3E46-FFC4-49C0-AD7E-9005AE26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89E-DB87-4538-9B6A-4CFDFE11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9840-C643-485A-A0B7-DFB9FF7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003F-EFD6-43EB-9748-E3C6E693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8EC0-1BEC-45D5-A1A6-88982D1B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D479-F29A-4669-8D8E-FCB91227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BE6A-E5F3-4701-AF98-A0A5EC7F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B08-FD90-47E4-845F-4F3AB8F5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B04-B829-4CC8-B4A0-F57BD1C6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E84-37E2-44A1-A0F2-CA779FFC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556-6B75-4F02-95C2-E87CE459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F62-A6FD-4DDD-8DE1-E67A63F0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4C2-2372-4402-886A-5DD716E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65B-A4E0-4C51-A868-A8BCE00A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6D1B-548A-4907-B6DB-03AB2DF80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AADE-F055-4A97-88A7-9A88E7EEA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25280" y="3168720"/>
            <a:ext cx="679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underline words, letters, sign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numbers when we refer to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895400" y="3168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922760" y="3168720"/>
            <a:ext cx="716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nry is different_____the rest of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m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95400" y="3168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13760" y="3168720"/>
            <a:ext cx="68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female pet is altered, she is _____ , not spa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97560" y="31687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ay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26360" y="3168720"/>
            <a:ext cx="71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nged is used in past tense when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87840" y="31687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life is ta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923120" y="3168720"/>
            <a:ext cx="61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as (real, really) frighten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the st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898280" y="316872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915560" y="316872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 or Irregar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24200" y="3168720"/>
            <a:ext cx="64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prescription, not perscri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927800" y="3168720"/>
            <a:ext cx="70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 means” before” and script mea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writ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923480" y="3168720"/>
            <a:ext cx="647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(freshman, freshmen) class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y sm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9720" y="316872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sh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911960" y="3168720"/>
            <a:ext cx="39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ilet mign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ck slice of beef cut from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arrow end of the tenderl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1981080" y="3200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deja v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24560" y="3168720"/>
            <a:ext cx="62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that is overly famili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897920" y="316872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tense of l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5400" y="3168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901520" y="31687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ar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13400" y="3168720"/>
            <a:ext cx="46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wish I (was, were) ri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78480" y="31687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06920" y="3168720"/>
            <a:ext cx="67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is capitalized – uncle Ted 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81720" y="316872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cle 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06200" y="316872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ing of 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7560" y="31687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dd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11240" y="316872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ooths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88200" y="316872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roph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06920" y="31687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ral of hand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9000" y="316872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ndfu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09440" y="316872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an: verb or 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18800" y="316872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stationary me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908720" y="316872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fixed 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909440" y="3168720"/>
            <a:ext cx="36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ll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22400" y="3168720"/>
            <a:ext cx="604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se impression” or decepti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pearanc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904760" y="316872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detass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72720" y="316872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 E T A S S E 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906560" y="316872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restaur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46800" y="3168720"/>
            <a:ext cx="42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 E S T A U R A N 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923840" y="3168720"/>
            <a:ext cx="633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the negro, potatoe, and he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919520" y="3168720"/>
            <a:ext cx="57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groes, Potatoes, and Hero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96120" y="31687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925280" y="3168720"/>
            <a:ext cx="65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an (paid, payed) his debt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5040" y="3168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24560" y="316872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spelling sepe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6200" y="3168720"/>
            <a:ext cx="29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has a rat in 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926720" y="3168720"/>
            <a:ext cx="64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itles do we underline/ital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18800" y="3168720"/>
            <a:ext cx="65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rger works such as books, play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ies, ec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63</cp:lastModifiedBy>
  <dcterms:modified xsi:type="dcterms:W3CDTF">2010-05-18T19:17:59Z</dcterms:modified>
  <cp:revision>19</cp:revision>
  <dc:subject/>
  <dc:title>Jeopardy</dc:title>
</cp:coreProperties>
</file>